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81800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82400" cy="991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43360" y="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911160" y="742680"/>
            <a:ext cx="4959360" cy="37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move the slid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6F7DF4F8-0E3E-4085-AD14-91A7391594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43360" y="9416880"/>
            <a:ext cx="29383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440" bIns="46440" anchor="b">
            <a:noAutofit/>
          </a:bodyPr>
          <a:p>
            <a:pPr algn="r"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fld id="{CEC261F1-DEEE-4B56-9A2A-60D92AE3B3E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2960" y="743040"/>
            <a:ext cx="4956120" cy="37177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03240" y="4708440"/>
            <a:ext cx="4975200" cy="446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65FEC-15A9-4BCF-AAA9-C0AD7D116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99383-8C81-44F1-89B9-85328A6FFA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14664-94E4-492D-B567-A2B41C2C7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21E29-1066-43E3-8D8F-77C6220519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8C88B-BBB3-4FF2-8AB6-4BA7E01AF6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37B47-270A-4800-A6A2-2CBB17827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5539B-3DDE-401E-9666-C563BA336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F45D-5C84-4BA0-B334-2D73FD4D29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59D74-9490-4DDC-A9BD-A1D88F2DB1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E8DC2-0F22-4961-A27D-1D625ED79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8BDE4-B860-4FFC-8186-B2477F571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A814A-FD5B-4AC3-B064-5FBCB4E693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Click to edit the title text format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3300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6D423-24C7-41EA-8664-4CDDDB2DFF59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5" descr="logo-a_samo_sede"/>
          <p:cNvPicPr/>
          <p:nvPr/>
        </p:nvPicPr>
        <p:blipFill>
          <a:blip r:embed="rId2"/>
          <a:stretch/>
        </p:blipFill>
        <p:spPr>
          <a:xfrm>
            <a:off x="304920" y="6095880"/>
            <a:ext cx="761760" cy="47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Obdélník 1"/>
          <p:cNvSpPr/>
          <p:nvPr/>
        </p:nvSpPr>
        <p:spPr>
          <a:xfrm>
            <a:off x="971640" y="1197000"/>
            <a:ext cx="7200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70c0"/>
                </a:solidFill>
                <a:latin typeface="Arial Narrow"/>
              </a:rPr>
              <a:t>Monetary Policy in Practice: Decision-making and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5f9bc8"/>
                </a:solidFill>
                <a:latin typeface="Arial Narrow"/>
              </a:rPr>
              <a:t>Mojmír Hampl, MSc., Ph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5f9bc8"/>
                </a:solidFill>
                <a:latin typeface="Arial Narrow"/>
              </a:rPr>
              <a:t>UTB Course: Financial System, Banks and Monetary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353440" cy="53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bove the formal department 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mbe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mbers must be familiar with any used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d able to connect the real economy with a model view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3 members from 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ead of the team, NTF, Technic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1 member from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onetary Policy Division, International Analysis and Fiscal Analysis Div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Oval 4"/>
          <p:cNvSpPr/>
          <p:nvPr/>
        </p:nvSpPr>
        <p:spPr>
          <a:xfrm>
            <a:off x="2171880" y="2925720"/>
            <a:ext cx="2974680" cy="149868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2711520" y="3424320"/>
            <a:ext cx="2295360" cy="49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2851200" y="3490920"/>
            <a:ext cx="1892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orecasting t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8"/>
          <p:cNvSpPr/>
          <p:nvPr/>
        </p:nvSpPr>
        <p:spPr>
          <a:xfrm>
            <a:off x="1360440" y="1681200"/>
            <a:ext cx="1625760" cy="874800"/>
          </a:xfrm>
          <a:prstGeom prst="ellipse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1495440" y="1930320"/>
            <a:ext cx="1351080" cy="37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1805040" y="1995480"/>
            <a:ext cx="558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505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Group 14"/>
          <p:cNvGrpSpPr/>
          <p:nvPr/>
        </p:nvGrpSpPr>
        <p:grpSpPr>
          <a:xfrm>
            <a:off x="2171880" y="2303640"/>
            <a:ext cx="674280" cy="996480"/>
            <a:chOff x="2171880" y="2303640"/>
            <a:chExt cx="674280" cy="996480"/>
          </a:xfrm>
        </p:grpSpPr>
        <p:sp>
          <p:nvSpPr>
            <p:cNvPr id="73" name="Line 12"/>
            <p:cNvSpPr/>
            <p:nvPr/>
          </p:nvSpPr>
          <p:spPr>
            <a:xfrm flipH="1" flipV="1">
              <a:off x="2238120" y="2406240"/>
              <a:ext cx="608040" cy="893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>
              <a:off x="2171880" y="2303640"/>
              <a:ext cx="137880" cy="1490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16"/>
          <p:cNvSpPr/>
          <p:nvPr/>
        </p:nvSpPr>
        <p:spPr>
          <a:xfrm>
            <a:off x="677520" y="4968720"/>
            <a:ext cx="3512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Model operator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Group 24"/>
          <p:cNvGrpSpPr/>
          <p:nvPr/>
        </p:nvGrpSpPr>
        <p:grpSpPr>
          <a:xfrm>
            <a:off x="2036880" y="4046400"/>
            <a:ext cx="809640" cy="873360"/>
            <a:chOff x="2036880" y="4046400"/>
            <a:chExt cx="809640" cy="873360"/>
          </a:xfrm>
        </p:grpSpPr>
        <p:sp>
          <p:nvSpPr>
            <p:cNvPr id="77" name="Line 22"/>
            <p:cNvSpPr/>
            <p:nvPr/>
          </p:nvSpPr>
          <p:spPr>
            <a:xfrm flipV="1">
              <a:off x="2036880" y="4138560"/>
              <a:ext cx="723960" cy="7812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23"/>
            <p:cNvSpPr/>
            <p:nvPr/>
          </p:nvSpPr>
          <p:spPr>
            <a:xfrm>
              <a:off x="269712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Rectangle 26"/>
          <p:cNvSpPr/>
          <p:nvPr/>
        </p:nvSpPr>
        <p:spPr>
          <a:xfrm>
            <a:off x="4655160" y="5029200"/>
            <a:ext cx="365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iscal and structural analysi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Group 33"/>
          <p:cNvGrpSpPr/>
          <p:nvPr/>
        </p:nvGrpSpPr>
        <p:grpSpPr>
          <a:xfrm>
            <a:off x="4060800" y="4046400"/>
            <a:ext cx="676080" cy="873360"/>
            <a:chOff x="4060800" y="4046400"/>
            <a:chExt cx="676080" cy="873360"/>
          </a:xfrm>
        </p:grpSpPr>
        <p:sp>
          <p:nvSpPr>
            <p:cNvPr id="81" name="Line 31"/>
            <p:cNvSpPr/>
            <p:nvPr/>
          </p:nvSpPr>
          <p:spPr>
            <a:xfrm flipH="1" flipV="1">
              <a:off x="4138200" y="4146480"/>
              <a:ext cx="598680" cy="7732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32"/>
            <p:cNvSpPr/>
            <p:nvPr/>
          </p:nvSpPr>
          <p:spPr>
            <a:xfrm>
              <a:off x="4060800" y="4046400"/>
              <a:ext cx="149400" cy="14616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Rectangle 34"/>
          <p:cNvSpPr/>
          <p:nvPr/>
        </p:nvSpPr>
        <p:spPr>
          <a:xfrm>
            <a:off x="5951520" y="4046400"/>
            <a:ext cx="2430360" cy="74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6098040" y="4118040"/>
            <a:ext cx="29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ternational relations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Group 39"/>
          <p:cNvGrpSpPr/>
          <p:nvPr/>
        </p:nvGrpSpPr>
        <p:grpSpPr>
          <a:xfrm>
            <a:off x="4871880" y="3755880"/>
            <a:ext cx="1214640" cy="290520"/>
            <a:chOff x="4871880" y="3755880"/>
            <a:chExt cx="1214640" cy="290520"/>
          </a:xfrm>
        </p:grpSpPr>
        <p:sp>
          <p:nvSpPr>
            <p:cNvPr id="86" name="Line 37"/>
            <p:cNvSpPr/>
            <p:nvPr/>
          </p:nvSpPr>
          <p:spPr>
            <a:xfrm flipH="1" flipV="1">
              <a:off x="5002200" y="3827520"/>
              <a:ext cx="1084320" cy="21888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38"/>
            <p:cNvSpPr/>
            <p:nvPr/>
          </p:nvSpPr>
          <p:spPr>
            <a:xfrm>
              <a:off x="4871880" y="3755880"/>
              <a:ext cx="157320" cy="138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Rectangle 41"/>
          <p:cNvSpPr/>
          <p:nvPr/>
        </p:nvSpPr>
        <p:spPr>
          <a:xfrm>
            <a:off x="4280400" y="2060640"/>
            <a:ext cx="36248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onetary policy and strategy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ff5050"/>
                </a:solidFill>
                <a:latin typeface="Arial"/>
              </a:rPr>
              <a:t>Chief editor of the Policy Docu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0" name="Line 123"/>
          <p:cNvSpPr/>
          <p:nvPr/>
        </p:nvSpPr>
        <p:spPr>
          <a:xfrm flipH="1">
            <a:off x="4211280" y="2637000"/>
            <a:ext cx="360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06292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ponsible for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bers meet operation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 several times per 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Near 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cide about the basic 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fend the forecast facing rest of the department and Board me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Forecasting team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Depart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partment Director and Division Director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6 meetings (4 really concern the forecas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ank B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2 meeting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inutes of the Meeting (intranet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eting on forecasting 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pportunity to introduce changes i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ssue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instorming, main drivers, set analytical age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itial conditions, External assumptions (CF), Equilibrium trends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is the actual position of the economy, trends in future, external d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5050"/>
                </a:solidFill>
                <a:latin typeface="Arial"/>
              </a:rPr>
              <a:t>Initial conditions, External assumptions (CF), Equilibrium trends meeting with the B</a:t>
            </a:r>
            <a:r>
              <a:rPr b="0" lang="cs-CZ" sz="2800" spc="-1" strike="noStrike">
                <a:solidFill>
                  <a:srgbClr val="ff5050"/>
                </a:solidFill>
                <a:latin typeface="Arial"/>
              </a:rPr>
              <a:t>o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04920" y="990720"/>
            <a:ext cx="83707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rst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rst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interest is put on the economic “story” underlying the fore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5050"/>
                </a:solidFill>
                <a:latin typeface="Arial"/>
              </a:rPr>
              <a:t>Alternatives meeting with the </a:t>
            </a:r>
            <a:r>
              <a:rPr b="0" lang="cs-CZ" sz="2400" spc="-1" strike="noStrike">
                <a:solidFill>
                  <a:srgbClr val="ff5050"/>
                </a:solidFill>
                <a:latin typeface="Arial"/>
              </a:rPr>
              <a:t>decision-ma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the baseline is presented as a “story” to the </a:t>
            </a:r>
            <a:r>
              <a:rPr b="0" lang="cs-CZ" sz="2000" spc="-1" strike="noStrike">
                <a:solidFill>
                  <a:srgbClr val="ff5050"/>
                </a:solidFill>
                <a:latin typeface="Arial"/>
              </a:rPr>
              <a:t>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5050"/>
                </a:solidFill>
                <a:latin typeface="Arial"/>
              </a:rPr>
              <a:t>discuss risks and choose 2-4 alternative scen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ecast - final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al version of the forecast is presented to the depar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cc"/>
                </a:solidFill>
                <a:latin typeface="Arial"/>
              </a:rPr>
              <a:t>Monetary 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policy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open part and presentations incl. policy advice of staff (final fcast and documents passed in 6 days ahea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closed part of BB, risks, decision (followed by press conf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st Mortem Me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560" y="1484280"/>
            <a:ext cx="883908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ear-term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tailed expert knowledg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ngle-equation techniqu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systems (VARs, structural model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imple gap model (deviations from long-term trends, advanced Kalman based filtering technique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8 behavioral equations (about 100 in total - identities, data transf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ctive monetary polic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ell documented and publish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Technique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09760" y="76500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Equa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  <a:ea typeface="Verdana"/>
              </a:rPr>
              <a:t>: Infla</a:t>
            </a: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116000" y="1979640"/>
                <a:ext cx="741672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α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β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+</m:t>
                        </m:r>
                        <m:r>
                          <m:t xml:space="preserve">γ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mxe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Δ</m:t>
                            </m:r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 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y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e>
                      <m:e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sup>
                        </m:sSup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φ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φ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6"/>
              <p:cNvSpPr txBox="1"/>
              <p:nvPr/>
            </p:nvSpPr>
            <p:spPr>
              <a:xfrm>
                <a:off x="3651120" y="3722760"/>
                <a:ext cx="1841760" cy="39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=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676520" y="1371600"/>
                <a:ext cx="6019560" cy="17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λ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rs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λ</m:t>
                            </m:r>
                          </m:e>
                        </m:d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s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neut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Π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 </m:t>
                            </m:r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ν</m:t>
                            </m:r>
                          </m:e>
                          <m:sub>
                            <m:r>
                              <m:t xml:space="preserve">τ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1676520" y="3429000"/>
                <a:ext cx="59817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Π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E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ar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d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t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gap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06" name="Text Box 4"/>
          <p:cNvSpPr/>
          <p:nvPr/>
        </p:nvSpPr>
        <p:spPr>
          <a:xfrm>
            <a:off x="1999080" y="765000"/>
            <a:ext cx="533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Verdana"/>
                <a:ea typeface="Verdana"/>
              </a:rPr>
              <a:t>A Model Reaction func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Special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79280" y="1557360"/>
            <a:ext cx="87631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sk treat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how to treat forecast uncertain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ttaching probability distributions to risk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55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e by each BB member, not staff’s jo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us: alternative scenarios preferable to fan-chart approach; scenarios selected by BB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 forecast bands (1,5 p.p.) stable, more to communicate general uncertainty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pecific risks communicated through BB’s Minu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Outline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23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Key character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ecial topics (risks, FPAS and B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cc"/>
                </a:solidFill>
                <a:latin typeface="Verdana"/>
              </a:rPr>
              <a:t>Thank you for your attention.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10480" cy="37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lation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tool for the Board to decide about monetary polic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in concern is to produce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 prerequisite for producing the forecast is to develop Forecasting syste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610480" cy="29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ole of the fore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re the economy is, and what the current trend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is their likely evolution into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implicit ri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at are the underlying policy pressures and policy simulations (active/endogenous M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10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cesses and ti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o and how is producing the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reful planning and document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cise timing for the forecasting ste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minu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nness - intranet web page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483920"/>
            <a:ext cx="861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chn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re mod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ear term forecasting techniqu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conometric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ert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atellite model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iscal policy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change rate and external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dels versus Experts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pert views always superior in the near term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 tools provide medium-term consistency and interpretability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final outcome will always be based more on economic judgement - the core model is an organisational too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Staff’s forecast, not a model forecas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Key characteristics</a:t>
            </a:r>
            <a:endParaRPr b="0" i="1" lang="en-US" sz="3200" spc="-1" strike="noStrike">
              <a:solidFill>
                <a:srgbClr val="00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netary department and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croeconomic forecasting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preparing the near term forec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developing and operating the cor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netary polic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MP strategy a 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it for the operational 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scal and structural analysis division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33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nternational economy divis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762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3333cc"/>
                </a:solidFill>
                <a:latin typeface="Verdana"/>
              </a:rPr>
              <a:t>Processes and ti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4"/>
          <p:cNvSpPr/>
          <p:nvPr/>
        </p:nvSpPr>
        <p:spPr>
          <a:xfrm>
            <a:off x="179280" y="1628640"/>
            <a:ext cx="876312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Quarterly forecast (5 week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ecasting team and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raction with the Board at various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well documented forecast rounds…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5T06:44:47Z</dcterms:created>
  <dc:creator>U03133</dc:creator>
  <dc:description/>
  <dc:language>en-US</dc:language>
  <cp:lastModifiedBy>uzivatel</cp:lastModifiedBy>
  <cp:lastPrinted>2002-12-10T16:18:24Z</cp:lastPrinted>
  <dcterms:modified xsi:type="dcterms:W3CDTF">2019-08-27T20:27:02Z</dcterms:modified>
  <cp:revision>48</cp:revision>
  <dc:subject/>
  <dc:title>Forecasting process in the CNB</dc:title>
</cp:coreProperties>
</file>