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625-20BA-49EB-8854-85B89E0D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3BA4-45BC-4A62-BAA0-EE790FF8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1F5-10CD-45B1-B854-AD6BEAC4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4953-7C56-4009-9149-C4EAA323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EA60-298C-4BA8-B17A-DDFE03B9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1517-71E9-467B-9EB5-7E8AEA1C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FF54-441C-4271-A296-A8F3EEF9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9E0C-0541-4080-85DF-70E45783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F6CD-5C9F-4B7C-8DD5-B7875EA6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25A4-6F16-4104-8CD8-844C7C2F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AF3D-F445-468D-92F1-AC5F5BE3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F08A-C6EF-47ED-A00F-5C31825D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A3BD-2567-4136-9C24-39EA5E28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1F86-274D-4CB1-BE44-C377D3FC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3AEB-5014-4DAC-A9D4-0FED00AE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8F47-91F8-4F97-87D1-0C69C486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A5AA-7A3C-4998-9B15-306A775C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FE1E-F737-4F04-8047-DE611C8A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90D-7A62-4F61-8303-E67D872F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082-30ED-4040-AA95-B36F1749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05C-7EB2-49D6-A321-DD67FC8B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7DA-5315-47CA-9103-8421D925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617-65C2-4F13-B7AC-1DD18C7A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0F2A-96A4-432E-8ADC-7F80C437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D5E6-9D37-4303-B097-A266066C73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4DA3-3724-4533-A182-D41946F2C2A9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Konceptuální rámec výzkumu -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úko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64-T"/>
          <p:cNvPicPr/>
          <p:nvPr/>
        </p:nvPicPr>
        <p:blipFill>
          <a:blip r:embed="rId1"/>
          <a:stretch/>
        </p:blipFill>
        <p:spPr>
          <a:xfrm>
            <a:off x="2627280" y="260280"/>
            <a:ext cx="34066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Techniky sběru a analýzy d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Předpokládané přínosy výzkumu pro teorii/věd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Předpokládané přínosy výzkumu pro prax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Použité zdroj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ázev disertační prá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méno a příjmení doktor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méno a příjmení školite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Oblast výzkum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Literární rešerš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Výzkumný problém a hlavní cíl výzkum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ýzkumné otáz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Dílčí výzkumné cí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Hypotéz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olba met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2T20:27:22Z</dcterms:created>
  <dc:creator>Pavelková Drahomíra</dc:creator>
  <dc:description/>
  <dc:language>en-US</dc:language>
  <cp:lastModifiedBy>Drahomíra Pavelková</cp:lastModifiedBy>
  <dcterms:modified xsi:type="dcterms:W3CDTF">2019-09-11T19:13:49Z</dcterms:modified>
  <cp:revision>2</cp:revision>
  <dc:subject/>
  <dc:title>      Konceptuální rámec výzkumu - úk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